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png" ContentType="image/pn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F91E-3516-4BEE-A56D-1D1737AECB91}" type="slidenum">
              <a:rPr b="0" lang="sr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9F9F-F83A-4217-9A6E-5C8B6F8519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2576-8DD4-4084-AC4F-0CF5D0F4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66D3-A8B1-46F7-890E-0A961ADF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71D50-3CAD-4CC4-87FA-EF22EBD5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4901-3259-402C-AE8B-09FA3698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5138-E886-4B62-8636-6653E140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0296-ABF1-417B-A8B4-1515808B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9850-A7A2-4B68-8952-0C71AD5F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A414-03B3-44F3-A91B-61F96D72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952F-3587-42F2-B1EF-ECE9E9E8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04B3-A7B5-4A6D-B703-85F25C55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7A5B-1622-4CA4-8814-C4BE8905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8483-BD46-4373-B3EF-89054E81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4BF5-8640-4700-8FD1-077EBBAA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CA6E-A2AA-4B83-B661-DEF05193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0AC6-C53E-4A84-81D8-5968CA1D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6638-F0AF-4D44-A74C-244E3FB9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014B-9191-4DA8-B105-17F95174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B499-5352-4CA6-93D1-6FE99C09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A599-B959-4E90-86DC-6665ADF3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07E6-9D39-4126-9D3F-7C7F73B8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D48E-5CAB-47BD-BB87-F0E66051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8A7B-834A-40B8-85F5-CF94F87F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0AA5-DEBD-4908-B447-90B08A19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2560-2EDA-4985-8402-D97E3F79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960" y="694692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8172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8B99-EB66-460D-84D5-9148E38A092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3" name="Group 5"/>
            <p:cNvGrpSpPr/>
            <p:nvPr/>
          </p:nvGrpSpPr>
          <p:grpSpPr>
            <a:xfrm>
              <a:off x="3047760" y="3933000"/>
              <a:ext cx="7102800" cy="3676680"/>
              <a:chOff x="3047760" y="3933000"/>
              <a:chExt cx="7102800" cy="367668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47760" y="4662720"/>
                <a:ext cx="508248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353000" y="4710240"/>
                <a:ext cx="221904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113800" y="5902560"/>
                <a:ext cx="502236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45960" y="3933000"/>
                <a:ext cx="530460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936200" y="4091760"/>
                <a:ext cx="219996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71840" y="6941880"/>
            <a:ext cx="3216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51" name="Group 3"/>
            <p:cNvGrpSpPr/>
            <p:nvPr/>
          </p:nvGrpSpPr>
          <p:grpSpPr>
            <a:xfrm>
              <a:off x="3047760" y="3933000"/>
              <a:ext cx="7106400" cy="3676680"/>
              <a:chOff x="3047760" y="3933000"/>
              <a:chExt cx="7106400" cy="367668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47760" y="4662720"/>
                <a:ext cx="508500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355160" y="4710240"/>
                <a:ext cx="222012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114880" y="5902560"/>
                <a:ext cx="502488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46680" y="3933000"/>
                <a:ext cx="530748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938720" y="4091760"/>
                <a:ext cx="220104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71840" y="694692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81720" y="695016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AB5C-E120-4AE1-8CB6-4FF33AFEE3D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16668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951200" y="531720"/>
            <a:ext cx="82087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ФАКУЛТЕТ МЕДИЦИНСК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Х НАУ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УНИВЕРЗИТЕТА У КРАГУЈЕВЦ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С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293760" y="369720"/>
            <a:ext cx="1071360" cy="17226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209320" y="2666880"/>
            <a:ext cx="638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 II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49400" y="-1608120"/>
            <a:ext cx="49147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96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1760" y="1666800"/>
            <a:ext cx="109378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β-ћелије Лангерхансових острваца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анкреа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921.год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Фредерик Бантинг и Чарлс Бес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први су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изоловали  инсули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953. го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д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Фредерик  Сангер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тврдио  врсту и редослед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у моле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улу инсул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Хумани инсулин садржи 51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два полипептидна ланц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А ланац (21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Б ланац (30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труктура инсулин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4" descr="D:\OSS NOVI PROGRAM\SLIKE\6. struktura insulina.jpg"/>
          <p:cNvPicPr/>
          <p:nvPr/>
        </p:nvPicPr>
        <p:blipFill>
          <a:blip r:embed="rId1"/>
          <a:stretch/>
        </p:blipFill>
        <p:spPr>
          <a:xfrm>
            <a:off x="790560" y="1778040"/>
            <a:ext cx="8578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88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иосинтеза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Content Placeholder 3" descr="insulin-maturation_01_w500[1]"/>
          <p:cNvPicPr/>
          <p:nvPr/>
        </p:nvPicPr>
        <p:blipFill>
          <a:blip r:embed="rId1"/>
          <a:stretch/>
        </p:blipFill>
        <p:spPr>
          <a:xfrm>
            <a:off x="2293920" y="1309680"/>
            <a:ext cx="54291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ски  рецептор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4680" y="1166760"/>
            <a:ext cx="108666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име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(састављен о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два мономер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ваки мономер :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– и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– субјединиц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убједин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љашња страна мембр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зивање хорм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убјединиц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же се кроз мембран у унутрашњост ће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свом интрацелуларн. делу садржи доме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има активност тирозин кин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Slide2"/>
          <p:cNvPicPr/>
          <p:nvPr/>
        </p:nvPicPr>
        <p:blipFill>
          <a:blip r:embed="rId1"/>
          <a:stretch/>
        </p:blipFill>
        <p:spPr>
          <a:xfrm>
            <a:off x="293760" y="1238400"/>
            <a:ext cx="8508960" cy="6381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380520" y="237960"/>
            <a:ext cx="52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ски  рецептор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22-12"/>
          <p:cNvPicPr/>
          <p:nvPr/>
        </p:nvPicPr>
        <p:blipFill>
          <a:blip r:embed="rId1"/>
          <a:stretch/>
        </p:blipFill>
        <p:spPr>
          <a:xfrm>
            <a:off x="4614840" y="3979800"/>
            <a:ext cx="5545080" cy="3470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367200" y="237960"/>
            <a:ext cx="58503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ffff00"/>
                </a:solidFill>
                <a:latin typeface="Arial"/>
                <a:ea typeface="Arial"/>
              </a:rPr>
              <a:t>Механизам дејств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54160" y="592200"/>
            <a:ext cx="1015992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Везивањем инсулина за </a:t>
            </a:r>
            <a:r>
              <a:rPr b="0" i="1" lang="sr-CS" sz="2600" spc="-1" strike="noStrike">
                <a:solidFill>
                  <a:srgbClr val="ffff00"/>
                </a:solidFill>
                <a:latin typeface="Arial"/>
                <a:ea typeface="Arial"/>
              </a:rPr>
              <a:t>тирозин киназне рецептор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 →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аутофосфорилације-активације рецептор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Активн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К каскадом сигналне трансдукције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фосфорилише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нтрацелуларне протеине (</a:t>
            </a:r>
            <a:r>
              <a:rPr b="0" i="1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ФОСФАТАЗ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актив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ира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ензим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гликолизе, гликогенезе, липогенез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- т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ранспорт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г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лукозе из крви у јетру, мишиће и масно ткиво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338040" y="3809880"/>
            <a:ext cx="2617920" cy="3487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2540160" y="4184640"/>
            <a:ext cx="1608120" cy="831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aramond"/>
              </a:rPr>
              <a:t>mesta vezivanja insulin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624040" y="5925960"/>
            <a:ext cx="1609920" cy="131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aramond"/>
              </a:rPr>
              <a:t>Unutrašnji delovi receptora- </a:t>
            </a:r>
            <a:r>
              <a:rPr b="1" lang="sr-Latn-CS" sz="1600" spc="-1" strike="noStrike">
                <a:solidFill>
                  <a:srgbClr val="000000"/>
                </a:solidFill>
                <a:latin typeface="Garamond"/>
              </a:rPr>
              <a:t>enzim tirozin kina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Најважнија дејства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1760" y="173844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лакшан транспорт глукозе кроз ћел. мембра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тимул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икол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интезе глик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ип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интезе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хиби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ет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Метаболички ефекти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4" descr="D:\OSS NOVI PROGRAM\SLIKE\2. efekti insulina.jpg"/>
          <p:cNvPicPr/>
          <p:nvPr/>
        </p:nvPicPr>
        <p:blipFill>
          <a:blip r:embed="rId1"/>
          <a:stretch/>
        </p:blipFill>
        <p:spPr>
          <a:xfrm>
            <a:off x="579600" y="1809720"/>
            <a:ext cx="89280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376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Регулација секреције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1760" y="209556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важнији фактор који контролише лучење инсулина је сама концентрација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концентрација глукозе стимулише луче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↓ концентрација глукозе инхибира  секреци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вог хорм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668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- Глукаго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1760" y="180972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ћелије Лангерхансових острваца  панкре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стварује снажан ефекат 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↑ конц.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тимулација гликогенолизе и глуконеогенез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израженији ефекат 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убрзање гликогенолиз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2120" y="1809720"/>
            <a:ext cx="104536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Хормонска регулација 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"/>
                <a:ea typeface="Arial"/>
              </a:rPr>
              <a:t>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симптоми, класификациј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метаболичке последице недостатк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клиничко лабораторијски налази у  diabet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mellitu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  <a:ea typeface="Arial"/>
              </a:rPr>
              <a:t>Орални глукоза толеранс тест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(ОГТТ),  HbA1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Хипогликемија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- узроци, симптом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лабораторијско испитивање хипогликемије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-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дренал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7960" y="1452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4000"/>
          </a:bodyPr>
          <a:p>
            <a:pPr marL="319680" indent="-319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 сржи надбубрег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дериват тирози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чи се у условима интензивног стрес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јство остварује преко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аденилат-циклазе и cAMP-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Везивањем за своје рецепто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зава гликогенолизу у јетри и мишић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стиче глуконеогенезу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пешује липолиз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ује лучење инсулин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37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-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Кортизо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1680" y="1809720"/>
            <a:ext cx="9858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 коре надбубрежне жлез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пада стероидним хормоним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зивањем кортизола за цитоплазматски рецептор долази до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ња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нтр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глукозе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нтагонистим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венствено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због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брзавања процеса глуконеогенезе у јетр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а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- Хормон рас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934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липептидни хормон предњег режња хипоф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доводи до ↑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глукозе у крви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след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еног коришћења глукозе у периферн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ки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зане липоли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ог коришћењ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ао извор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имулације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1760" y="188136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инички синдром у чијој основи постој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оремећај метаболизм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Х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, масти и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ротеина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зрок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псолут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ли релатив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дефицит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езистенци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ериферних ткива н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јчешће се манифесту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ронично повећаном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хипергликемиј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основни знак ове боле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Content Placeholder 3" descr="scooping[1]"/>
          <p:cNvPicPr/>
          <p:nvPr/>
        </p:nvPicPr>
        <p:blipFill>
          <a:blip r:embed="rId1"/>
          <a:stretch/>
        </p:blipFill>
        <p:spPr>
          <a:xfrm>
            <a:off x="793800" y="2666880"/>
            <a:ext cx="3786120" cy="282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insulin_resistance[1]"/>
          <p:cNvPicPr/>
          <p:nvPr/>
        </p:nvPicPr>
        <p:blipFill>
          <a:blip r:embed="rId2"/>
          <a:stretch/>
        </p:blipFill>
        <p:spPr>
          <a:xfrm>
            <a:off x="4865760" y="2595600"/>
            <a:ext cx="407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49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796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(WHO)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нише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ао обољење на основу лабораторијских налаз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 већи од 7,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након периода ноћног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концентрација глукоз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ћа од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11,1 mmol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ва сата након узимања оброка богатог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Х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акон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ралног уноше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960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7600" y="109548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4000"/>
          </a:bodyPr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ви знаци који указују на почетак шећерне болести с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у теж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ишићна слаб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жеђ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већана екскреција мокраћ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нализом биохемијских парамет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↑ концентрације у крви и ↑ екскреције ур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↑ осмоларност, жеђ и ↑унос течности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↑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кскреције урина, дехидратациј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убитак електроли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ласификација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M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и других поремећаја толеранције глукоз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е клас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I (инсулин-зависни 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II (инсулин-независни 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нутрицијски D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Други типови DM повезани са нек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ањима и синдром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ремећај толеранције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1760" y="20955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ип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(инсулин зависни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i="1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ледица  недовољног лучењ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сутан код 5-10% свих пацијен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олелих од дијабет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основи деструкција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ћел. Лангерхансов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трваца панкре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чи се 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3" descr="resource[1]"/>
          <p:cNvPicPr/>
          <p:nvPr/>
        </p:nvPicPr>
        <p:blipFill>
          <a:blip r:embed="rId1"/>
          <a:stretch/>
        </p:blipFill>
        <p:spPr>
          <a:xfrm>
            <a:off x="5365800" y="237960"/>
            <a:ext cx="3643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600" y="23814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ип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(инсулин независни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i="1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лативни недостатак активности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сно резистенција на инсул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сутан код 80-90% дијабетич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чи се оралним хипогликемицима/и/и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3" descr="eating-insulin-pumps[1]"/>
          <p:cNvPicPr/>
          <p:nvPr/>
        </p:nvPicPr>
        <p:blipFill>
          <a:blip r:embed="rId1"/>
          <a:stretch/>
        </p:blipFill>
        <p:spPr>
          <a:xfrm>
            <a:off x="5437080" y="309600"/>
            <a:ext cx="3714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960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6320" y="1595520"/>
            <a:ext cx="9358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лавни извор ЕНЕРГИЈЕ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(E)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у организм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ја се ослобађа оксидацијом ових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ињења до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ристе се за синтезу биомолекула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о су масне кисел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ставни су део биолошки значајних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ињења (нукл. кисел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carbohydratesExamples"/>
          <p:cNvPicPr/>
          <p:nvPr/>
        </p:nvPicPr>
        <p:blipFill>
          <a:blip r:embed="rId1"/>
          <a:stretch/>
        </p:blipFill>
        <p:spPr>
          <a:xfrm>
            <a:off x="6794640" y="166680"/>
            <a:ext cx="30891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880" y="7380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Фактори ризика за настанак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-а типа II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ојазн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зитивна породична  анам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изичка неактивн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естациони дијабете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ртеријска хипертенз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липид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дијабетес, оштећена толеран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; HbA1c ≥ 5.7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зитивна анамнез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ВС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3760" y="309600"/>
            <a:ext cx="102153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Лабораторијско дијагностички критеријуми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за diabetes mellitu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93400" y="18813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у венској плазми наташте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≥ 7.0 mmol/L*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у венској плазми 2 сата након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ОГТТ-а ≥ 11.1 mmol/L*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bA1c ≥ 6.5%*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случајан  налаз глукозе у плазм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≥11.1 mmol/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од особа које имају симптоме шећерне болести или код особа са хипергликемијском криз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176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је најчешће одређивани аналит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нцентрациј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жава се у уском опсегу од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3.6- 6.1 mmol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кон периода ноћног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ује се  лабораторијским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етодам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В фотометријском методом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хексокиназ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пектрофотометријском методом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о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ксидаз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дређивање концентрације глукозе у крви</a:t>
            </a:r>
            <a:br>
              <a:rPr sz="3200"/>
            </a:b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хексокиназном методом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936720" y="2523960"/>
            <a:ext cx="82152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07960" y="309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7000"/>
          </a:bodyPr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ко 7.0 mmol/L након периода ноћно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довања,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већа од 11.1 mmol/L 2 сата  након об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ли 2 сата  након ОГТТ-а очекивани с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лази у шећерној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 условима стреса и боле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огу се измерити више концентра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, као последица дел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трарегулаторних хормона инсул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хемоглобини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79600" y="1666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тају у еритроцит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валентним  везивањем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ормирање гликохемоглоб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еензимски процес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чији је интензите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оналан конц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вна компонента гликолизираног хемоглобина који се ствара је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HbA1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нормално око 5%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H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циркулациј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36680" y="166680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гликохемоглобина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HbA1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дгова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sr-Latn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средњем просеку конц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глукозе 2-3 месеца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пр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мере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охемоглобин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HbA1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параметар који одражава контролу дијабетеса 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дужем временском период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не зависи од краткотрајних промена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дуго стабила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 узорку пуне крви, независности 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доба дана и уношења обро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789120" y="595440"/>
            <a:ext cx="42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хемоглобин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49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зурија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глукоза у урину)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9340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се не налази у узорку урина здраве особ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а се може рећи д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ије нормални састојак у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Бубрежни праг за глукоз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зноси 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ља макс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онцентрацију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рви која није праћена појавом глукозе у ур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504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зур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93400" y="13809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глукозе у крви већа од 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доводи д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реоптерећења бубрега и појаве гликозур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оказивање глукозе у урину врши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валитативно помоћу урин тест тр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руги узроци гликозурије су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рудноће, болести бубрега, урођених греша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етаболизма, хипертиреоз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6680" y="7380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Кетонска тела у крви и урину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(кетонемија и кетонурија)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6320" y="2166840"/>
            <a:ext cx="9723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цетоацетат, β-хидроксибутират и ацет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у се из acetil-CoA у 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адовање и недостатак инсулина  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езултира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траћелијским дефицитом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усмеравањем метаболизма на убрз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таболизам ма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уко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668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ступљениј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моносахарид у приро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ни извор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људском организм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хемијском састав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алдохекс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тички  акти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ма четири хирална угљеникова ато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скреће раван поларизоване светлости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сн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озната и 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ао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декстро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лази у састав дисахарида и полисахари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етонска тела у крви и урин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93760" y="1738440"/>
            <a:ext cx="98661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изиолошка кето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ада кетонска тела у крви достигну конц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  2m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авља с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гладовању, екстремном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вежбањ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 одмаклој тру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јабетичка кето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оже настат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особа које имају инсул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ависни 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естови оптерећења дају слику 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атаболизму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собности организма да контролише конц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тестова оптерећења после конзумир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ати се промена концентрације глукозе у крви у одређеним временским интервал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слови за извођење Глукоза толеранс теста (ОГТТ-а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1000"/>
          </a:bodyPr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изводи се ујутру након 10 -16 сати гладов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ацијент бар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дана на исхрани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с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50г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УХ днев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ацијент не сме да се пре извођења теста излаж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интензивном вежбањ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 току извођења теста пацијен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мора да миру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е сме да једе и да пуш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ест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се не извод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пацијентима који су у ин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кцији или опоравку од трауме или теже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акон уношења глукозе узорковање крви мора бити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ачно 2 сата од давања глуко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0840" y="177804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рални глукоза-толеранс тест (ОГТТ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води се ујутру након 10-16 сати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зима се узорак крви за одређивање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таш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аје се 75г глукозе у 250-300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во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рв се узима сваких 30 мин у току 2 сата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ноше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Picture 3" descr="D:\OSS NOVI PROGRAM\SLIKE\4. OGTT (3).jpg"/>
          <p:cNvPicPr/>
          <p:nvPr/>
        </p:nvPicPr>
        <p:blipFill>
          <a:blip r:embed="rId1"/>
          <a:srcRect l="25190" t="12868" r="24998" b="11892"/>
          <a:stretch/>
        </p:blipFill>
        <p:spPr>
          <a:xfrm>
            <a:off x="865080" y="1881360"/>
            <a:ext cx="835812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176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 код здравих и код дијабетичара конц. глукозе брзо расте по конзумирању (30-60ми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здравих се брзо враћа на првобитн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ед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дијабетичара веома споро јер се 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е довољно инсулина па је врем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аћања на нормално стање продуже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Дијагностички критеријуми СЗО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а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за дијабетес и стања хипер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400" y="20239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Дијабете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а наште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≥ 7.0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глукоза у плазми у 120 мин. 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OGTT-a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≥ 11.1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Интолеранција на глукозу(IGT; impaired glucose toleran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а наште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7.0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лазма глукоза 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0 мин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OGTT-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≥ 7.8&lt;11.1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Дијагностички критеријуми СЗО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а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за дијабетес и стања хипергликемиј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796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Оштећена гликемија наште (IFG; impaired fasting glucos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а наште у плазми  6.1 до 6.9 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у плазми 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0 мин ОГТТ-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&lt;7.8 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668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а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1760" y="159552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нижена концентрација глукозе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ј. концентрација глукозе нижа од 3.0 mmol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ела хипогликем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хипогликеми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ашт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остпрандијал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хипогликеми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погликемија нашт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таје након дужег гладовањ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анифестује се симптомима који се испољава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оћу или рано ујут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50796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69000"/>
          </a:bodyPr>
          <a:p>
            <a:pPr marL="262800" indent="-262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погликемија нашт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основи  ове врсте хипо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ерсекрециј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тензивно вежбање, тешка обољ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тре и непанкреасни тум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стпрандијал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таје неколико часова након уношењ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брока и може бити  изазвана применом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лкохола, лекова (инсулина), глукоз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руктоз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 галакт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гулација гликемије</a:t>
            </a:r>
            <a:br>
              <a:rPr sz="32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3760" y="1095480"/>
            <a:ext cx="10866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жање сталне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глукозе у крв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ажно з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функционисањ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читаво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организ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ад орга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(мозак, бубрези, еритроцит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осимо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мирниц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огати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скроб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ахарид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малтозом, лактозом и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сахароз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егулацији гликемије  учествуј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схрана, јетра и хорм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имптоми хипо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93760" y="166680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Arial"/>
                <a:ea typeface="Arial"/>
              </a:rPr>
              <a:t>Адреналин је одговоран за класичне симптоме хипогликеми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1" lang="sr-RS" sz="36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рхтав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зноје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мучн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тахикард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вртоглав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гла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нелагодност у стома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00ff00"/>
                </a:solidFill>
                <a:latin typeface="Arial"/>
                <a:ea typeface="Arial"/>
              </a:rPr>
              <a:t>Ови симптоми срећу се и у хипертиреози, феохромоцитом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00ff00"/>
                </a:solidFill>
                <a:latin typeface="Arial"/>
                <a:ea typeface="Arial"/>
              </a:rPr>
              <a:t>и код анксиоз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Неки од могућих узрока</a:t>
            </a:r>
            <a:r>
              <a:rPr b="1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хипогликемиј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5040" y="159552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уготрајно гладо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екови (пропранолол, орал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ци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лкохол (инхибира глуконеогенезу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дозирање 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ешка обољења јетре, 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ледни метаболички поремећа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глукокортикои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панкреасни тумори који појачано трош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а код новорођенчади и дец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07600" y="1778040"/>
            <a:ext cx="100011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а код новорођенчади и дец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чешћа је у односу на одрасле особе, чак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 краткотрајном гладовањ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онатална хипогликемија дефинише 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 основу ла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лаза гликемије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иже од 1,6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од донесе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оворођенчади, односно ниже од 1,1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превремено рођене дец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Узроци хипогликемије код новорођенчади 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 деце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36680" y="18813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лаз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иска тел.маса на рођењ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времено рођена де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ли токсемија код мај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спираторни “дистрес” синдр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зроци хипогликемије код новорођенчади</a:t>
            </a:r>
            <a:br>
              <a:rPr sz="3600"/>
            </a:b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и дец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36680" y="20955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Трај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дефект у стварању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гликоген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галактоз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наследна неподношљивост фрукт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ендогени хиперинсулиниз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1760" y="523800"/>
            <a:ext cx="10160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Лабораторијско испитивање хипогликемије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одређивање 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концентрације инсулина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одређивање концентрације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пепти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пептид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део инактивног облика инсулина  заједно са инсулином излучу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крв у једнаким количина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значајан је показатељ концентрације ово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а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216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796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ушкарац старости 58 година јавља се лекару због наглог губитка телесне тежине, осећаја опште слабости и малаксалости који траје данима уназад , брзог замарања као и интензивног осећаја  жеђ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није је патио од гојазности, повремено конзумира алкохол, пушач је 30 година уназад, и има седентарни начин живо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јективним прегледом лекар је установио да је пацијент видно дехидриран и да има исушену кож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- Лабораторијски налаз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65040" y="21668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11,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(3.8-6.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136 mmol/L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(137-14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5,8 mmol/L  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(3.5-5.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моларност 385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Osm/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(285-29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+ глукоза у урину на основу урин тест тра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320" y="309600"/>
            <a:ext cx="94294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-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На коју болест најпре посумњамо код лабораторијског налаза хипергликемије и гликозур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. Који облик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-a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је присутан код нашег пацијента 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3. Које би још лабораторијске параметре могли да затражимо у циљу прецизнијег постављања дијагнозе и увођења терап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4. Како се изводи ОГТТ и како тумачимо добијене резулта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5. Како се лечи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војка старости 21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одину доводе код лекара због изненадне дрхтавице,лупања срца, презнојавања, мучнине, вртоглавиц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осећаја нелагодности у стомаку. Због бављења манекенством дуже време је на ригорозном дијететском режиму исхране, са смањеним  уносом угљених хидрата, а такође је приликом изласка у град попила и неколико алкохолних пић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гулација 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4" descr="D:\OSS NOVI PROGRAM\SLIKE\3. faze glikemije.jpg"/>
          <p:cNvPicPr/>
          <p:nvPr/>
        </p:nvPicPr>
        <p:blipFill>
          <a:blip r:embed="rId1"/>
          <a:stretch/>
        </p:blipFill>
        <p:spPr>
          <a:xfrm>
            <a:off x="507960" y="1523880"/>
            <a:ext cx="914400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34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- Лабораторијски налаз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.9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(3.8-6.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реа           3.6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(3.0-8.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реатинин  71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(49-10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K               69U/L                                (0-17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KMB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9.0U/L                              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2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SH             2.07uIU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/mL                       (0.38-5.3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FT</a:t>
            </a:r>
            <a:r>
              <a:rPr b="0" lang="sr-Latn-R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                  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10.74pmol/L                      (7.46-21.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3400" y="23796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 </a:t>
            </a:r>
            <a:r>
              <a:rPr b="0" i="1" lang="sr-Latn-RS" sz="3600" spc="-1" strike="noStrike">
                <a:solidFill>
                  <a:srgbClr val="00ff00"/>
                </a:solidFill>
                <a:latin typeface="Arial"/>
                <a:ea typeface="Arial"/>
              </a:rPr>
              <a:t>-</a:t>
            </a: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36680" y="13809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су могући узроци хипогликемије к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шег пацијенткињ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. Који су остали узроци хипогликемиј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3. Код којих болести се такође срећу о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мптом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4. Који лабораторијски параметри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чешће одређују у пракси у испитивањ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гулација 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7960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 стању ситости стимулисани су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ли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ипоге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 стању гладовања стимулисани су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оли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неоге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етогене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оли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лога јетре у р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егулациј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три  се одиграва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ључни процеси одговорни за мета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тра има способност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депонов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е и ослобађања глукозе у крвот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азградње глик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варања глукозе из фруктозе/галакт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668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лога хормона у р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егулациј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2120" y="19526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мањује концентрацију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(глукагон, кортизол, адреналин и хорм. раста)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овећавају концентрацију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KC KG Lab</cp:lastModifiedBy>
  <dcterms:modified xsi:type="dcterms:W3CDTF">2020-10-01T08:01:33Z</dcterms:modified>
  <cp:revision>202</cp:revision>
  <dc:subject/>
  <dc:title>PowerPoint Presentation</dc:title>
</cp:coreProperties>
</file>